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FDDB356-AAF6-4EDB-B246-0F5E0196E56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A821627-F01F-4655-9189-8C5CB887D3D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4DE6FD8-B227-42C9-A874-9A674FCDEF2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BBC1B4E-A154-4ECD-9F94-7C8E89A03B9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72F3F33-9155-4715-828B-7FF0CFF745E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894A51D-DF26-43AE-8030-F70C10D2137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A4E4508-F5C7-4DCF-A378-EF194FDDE30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D5D43D9-10C7-40D2-BC8D-A23DE284718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501409E-6799-4720-8B95-1327F6A38AC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B4DFF11-57F9-419E-9A36-72D79512784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01A5AEE-EE8D-49E6-8335-9AF179007C5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11E303E-6172-46B9-AF62-ED7AC0F05F7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1444C1B-E862-4939-B2FE-A0F21744157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EBD7DA9-F89F-46BC-BAEF-4B3282B52D3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43D0-C823-42E0-8452-316AAAF2F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7581-5CD5-4969-AFED-4707CDA9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1FB0-CE01-435A-9408-C206FBAC1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F5A7-9AFE-4737-97EC-36E0C43EC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2934-D5AC-454D-AB75-CDFD1CB4C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9D26-9D91-457D-A10E-41921B50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1A5F-F28A-497E-B20C-5D1AAAF4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8D26-01C6-4731-96DF-45045A7B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5C14-36E9-4806-94BB-812E39F2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6780-E3AE-4F65-BCBB-A2EC29D3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5FCF-2DFA-429A-9015-3117A0CA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5E6C-53D4-445A-BA7B-5DF6422E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B972-84B6-4EFB-A8CA-E0337116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08F3-AFC3-4F15-9F28-A3EB487D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9A28-B6F5-48C8-A658-52B655FD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BA7B-D071-47B0-9DB7-9481FBC69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7644-7E12-4648-8023-61EEFC506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CEB74B-ABD0-4688-8AFC-75A5C39EF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106DD2-FF48-4510-9F0C-F749F5AB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132541-DFA3-4CCF-8926-D3974343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266F0F-B1B8-4998-BF6C-9EA19730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20A393-2DC6-46BB-8AF8-07B081E6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E34B-75CB-4409-949C-9A2D72BE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33958C-0F7B-4D6C-AE26-1C6CEA39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AB9784-348B-42E7-A415-31274922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BF8A19-06D0-46AD-BC54-71E175ED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2DC2A1-E52A-48BF-AC9C-B56E40C5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D0E81E-9061-4800-83BD-035B48CA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7CEDA2-C49A-4656-B657-A7D77348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80E73A-4F14-48A4-BF43-4A6ED9C1E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12654-F73E-44EA-A599-25FAE6F68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CFA75-E400-4E36-842A-AEB0A373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73548-EB5E-438B-8556-4B0F6B86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6826-02B8-4C29-AC08-E14CAE95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7C9FB-C3E4-4C99-9576-F8D582AC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B1469-F463-487A-9391-67DF9587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1490F-383B-4ABC-ABC0-33C9EC14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5D614-9B0D-4F54-8F02-0ABB5F6F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1F7D2-6FED-480E-8877-92DFAA6B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0BCBA-D8E8-4FC8-857A-650F70AA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09D7B-D71D-445A-B41F-C843E29F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EEF8F-EB02-4FE8-8929-6F46A3F6F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3D77F-82A2-4E10-B4D8-33F4994DA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8622-651A-468B-9B4A-66CFC781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22D6-F177-4B42-AA70-37E879B6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B984-E5C1-41E3-AC57-D1337819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C96C-8E45-4C67-81A8-E8D74EAC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0FB0-B96F-4295-8802-E157E1F1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05D6-3C15-4171-B8E9-603C2B9918D2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FA25-3EC4-4B36-86AE-C7D0092E6298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5C6E-60B8-4BC8-8FC4-1886CCC2E047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14A3-1D40-49FD-B261-F46C9F481633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47960" y="167616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Arial Black"/>
              </a:rPr>
              <a:t>Unit 4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705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42"/>
                </a:solidFill>
                <a:latin typeface="Arial Black"/>
              </a:rPr>
              <a:t>Dr. &amp; Mrs. Vandertrampp au Passé Composé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51920" y="11430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3e3d2d"/>
                </a:solidFill>
                <a:latin typeface="Arial Black"/>
              </a:rPr>
              <a:t>7. Elle a bu un coca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3e3d2d"/>
                </a:solidFill>
                <a:latin typeface="Arial Black"/>
              </a:rPr>
              <a:t>8. Et elle a mangé des escargots.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3e3d2d"/>
                </a:solidFill>
                <a:latin typeface="Arial Black"/>
              </a:rPr>
              <a:t>9. Mais elle est morte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151920" y="11430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3e3d2d"/>
                </a:solidFill>
                <a:latin typeface="Arial Black"/>
              </a:rPr>
              <a:t>10.  Nous ____ (être) tristes.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3e3d2d"/>
                </a:solidFill>
                <a:latin typeface="Arial Black"/>
              </a:rPr>
              <a:t>11.  Nous  ____(rentrer) chez nous.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3e3d2d"/>
                </a:solidFill>
                <a:latin typeface="Arial Black"/>
              </a:rPr>
              <a:t>12. Mais nous _____(dormir)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151920" y="11430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3e3d2d"/>
                </a:solidFill>
                <a:latin typeface="Arial Black"/>
              </a:rPr>
              <a:t>10.  Nous avons été tristes.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3e3d2d"/>
                </a:solidFill>
                <a:latin typeface="Arial Black"/>
              </a:rPr>
              <a:t>11.  Nous  sommes rentré(e)s chez nous.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3e3d2d"/>
                </a:solidFill>
                <a:latin typeface="Arial Black"/>
              </a:rPr>
              <a:t>12. Mais nous avons dormi.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-381240" y="304560"/>
            <a:ext cx="9829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ctr">
              <a:lnSpc>
                <a:spcPct val="100000"/>
              </a:lnSpc>
              <a:spcBef>
                <a:spcPts val="83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600" spc="-1" strike="noStrike">
                <a:solidFill>
                  <a:srgbClr val="3e3d2d"/>
                </a:solidFill>
                <a:latin typeface="Arial Black"/>
              </a:rPr>
              <a:t>FIN!</a:t>
            </a:r>
            <a:endParaRPr b="0" lang="en-US" sz="3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6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Arial Unicode MS"/>
              </a:rPr>
              <a:t>Direction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e3d2d"/>
                </a:solidFill>
                <a:latin typeface="Arial Black"/>
              </a:rPr>
              <a:t>Sortez les tablettes.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e3d2d"/>
                </a:solidFill>
                <a:latin typeface="Arial Black"/>
              </a:rPr>
              <a:t>Je vais vous montrer un verbe et un sujet. S.V.P., conjuguez le verbe correctement au passé composé.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Arial Unicode MS"/>
              </a:rPr>
              <a:t>Direction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228240" y="1599840"/>
            <a:ext cx="8915400" cy="43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ctr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600" spc="-1" strike="noStrike">
                <a:solidFill>
                  <a:srgbClr val="3e3d2d"/>
                </a:solidFill>
                <a:latin typeface="Arial Black"/>
              </a:rPr>
              <a:t>VOUS AVEZ COMPRIS?!</a:t>
            </a:r>
            <a:endParaRPr b="0" lang="en-US" sz="10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Arial Unicode MS"/>
              </a:rPr>
              <a:t>Direction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28240" y="1599840"/>
            <a:ext cx="8915400" cy="43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ctr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600" spc="-1" strike="noStrike">
                <a:solidFill>
                  <a:srgbClr val="3e3d2d"/>
                </a:solidFill>
                <a:latin typeface="Arial Black"/>
              </a:rPr>
              <a:t>ALLONS-Y!</a:t>
            </a:r>
            <a:endParaRPr b="0" lang="en-US" sz="10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51920" y="11430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3e3d2d"/>
                </a:solidFill>
                <a:latin typeface="Arial Black"/>
              </a:rPr>
              <a:t>Madame Ours _____(monter) dans le bus.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3e3d2d"/>
                </a:solidFill>
                <a:latin typeface="Arial Black"/>
              </a:rPr>
              <a:t>Monsieur Ours _____(partir) à Paris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3e3d2d"/>
                </a:solidFill>
                <a:latin typeface="Arial Black"/>
              </a:rPr>
              <a:t>Mademoiselle Ours _____(voir) un film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151920" y="11430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3e3d2d"/>
                </a:solidFill>
                <a:latin typeface="Arial Black"/>
              </a:rPr>
              <a:t>Madame Ours est montée dans le bus.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3e3d2d"/>
                </a:solidFill>
                <a:latin typeface="Arial Black"/>
              </a:rPr>
              <a:t>Monsieur Ours est parti à Paris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3e3d2d"/>
                </a:solidFill>
                <a:latin typeface="Arial Black"/>
              </a:rPr>
              <a:t>Mademoiselle Ours a vu un film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151920" y="11430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3e3d2d"/>
                </a:solidFill>
                <a:latin typeface="Arial Black"/>
              </a:rPr>
              <a:t>4. M et Mme Ours _____(arriver) en retard.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3e3d2d"/>
                </a:solidFill>
                <a:latin typeface="Arial Black"/>
              </a:rPr>
              <a:t>5. Mais ils ____(entrer) dans le cinéma.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3e3d2d"/>
                </a:solidFill>
                <a:latin typeface="Arial Black"/>
              </a:rPr>
              <a:t>6. Ils _____(regarder) un film de Britney Spears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151920" y="11430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3e3d2d"/>
                </a:solidFill>
                <a:latin typeface="Arial Black"/>
              </a:rPr>
              <a:t>4. M et Mme Ours sont arrivés en retard.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3e3d2d"/>
                </a:solidFill>
                <a:latin typeface="Arial Black"/>
              </a:rPr>
              <a:t>5. Mais ils sont entrés dans le cinéma.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3e3d2d"/>
                </a:solidFill>
                <a:latin typeface="Arial Black"/>
              </a:rPr>
              <a:t>6. Ils ont regardé un film de Britney Spears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151920" y="11430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3e3d2d"/>
                </a:solidFill>
                <a:latin typeface="Arial Black"/>
              </a:rPr>
              <a:t>7. Elle _____ (boire) un coca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3e3d2d"/>
                </a:solidFill>
                <a:latin typeface="Arial Black"/>
              </a:rPr>
              <a:t>8. Et elle _______(manger) des escargots.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3e3d2d"/>
                </a:solidFill>
                <a:latin typeface="Arial Black"/>
              </a:rPr>
              <a:t>9. Mais elle ______(mourir)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GREBERT,VIVIANE</cp:lastModifiedBy>
  <dcterms:modified xsi:type="dcterms:W3CDTF">2017-03-14T18:14:37Z</dcterms:modified>
  <cp:revision>138</cp:revision>
  <dc:subject/>
  <dc:title>Allez, viens! – Level 2</dc:title>
</cp:coreProperties>
</file>